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</p:sldIdLst>
  <p:sldSz cx="10080625" cy="7559675"/>
  <p:notesSz cx="7102475" cy="9388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7102800" cy="938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93" name="AutoShape 1"/>
          <p:cNvSpPr/>
          <p:nvPr/>
        </p:nvSpPr>
        <p:spPr>
          <a:xfrm>
            <a:off x="0" y="0"/>
            <a:ext cx="7102440" cy="9388440"/>
          </a:xfrm>
          <a:custGeom>
            <a:avLst/>
            <a:gdLst>
              <a:gd name="textAreaLeft" fmla="*/ 360 w 7102440"/>
              <a:gd name="textAreaRight" fmla="*/ 7102080 w 7102440"/>
              <a:gd name="textAreaTop" fmla="*/ 360 h 9388440"/>
              <a:gd name="textAreaBottom" fmla="*/ 9388080 h 9388440"/>
            </a:gdLst>
            <a:ahLst/>
            <a:rect l="textAreaLeft" t="textAreaTop" r="textAreaRight" b="textAreaBottom"/>
            <a:pathLst>
              <a:path w="21600" h="28552">
                <a:moveTo>
                  <a:pt x="4" y="0"/>
                </a:moveTo>
                <a:arcTo wR="4" hR="4" stAng="16200000" swAng="-5400000"/>
                <a:lnTo>
                  <a:pt x="0" y="28548"/>
                </a:lnTo>
                <a:arcTo wR="4" hR="4" stAng="10800000" swAng="-5400000"/>
                <a:lnTo>
                  <a:pt x="21596" y="2855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203480" y="712800"/>
            <a:ext cx="4690800" cy="35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709560" y="4459320"/>
            <a:ext cx="568008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0798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dt" idx="37"/>
          </p:nvPr>
        </p:nvSpPr>
        <p:spPr>
          <a:xfrm>
            <a:off x="4019040" y="-360"/>
            <a:ext cx="30798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ftr" idx="38"/>
          </p:nvPr>
        </p:nvSpPr>
        <p:spPr>
          <a:xfrm>
            <a:off x="-360" y="8919720"/>
            <a:ext cx="30798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 type="sldNum" idx="39"/>
          </p:nvPr>
        </p:nvSpPr>
        <p:spPr>
          <a:xfrm>
            <a:off x="4019040" y="8919720"/>
            <a:ext cx="30798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01760"/>
                <a:tab algn="l" pos="803160"/>
                <a:tab algn="l" pos="1206360"/>
                <a:tab algn="l" pos="1609560"/>
                <a:tab algn="l" pos="2008080"/>
                <a:tab algn="l" pos="2413080"/>
                <a:tab algn="l" pos="2816280"/>
                <a:tab algn="l" pos="3218040"/>
                <a:tab algn="l" pos="3621240"/>
                <a:tab algn="l" pos="4024440"/>
                <a:tab algn="l" pos="4425840"/>
                <a:tab algn="l" pos="4827600"/>
                <a:tab algn="l" pos="5232240"/>
                <a:tab algn="l" pos="5634000"/>
                <a:tab algn="l" pos="6033960"/>
                <a:tab algn="l" pos="6438960"/>
                <a:tab algn="l" pos="6840360"/>
                <a:tab algn="l" pos="7242120"/>
                <a:tab algn="l" pos="7645320"/>
                <a:tab algn="l" pos="8048520"/>
                <a:tab algn="l" pos="8064360"/>
                <a:tab algn="l" pos="8467560"/>
                <a:tab algn="l" pos="8871120"/>
                <a:tab algn="l" pos="9274320"/>
                <a:tab algn="l" pos="9677520"/>
                <a:tab algn="l" pos="10080720"/>
                <a:tab algn="l" pos="10483920"/>
                <a:tab algn="l" pos="1088712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01760"/>
                <a:tab algn="l" pos="803160"/>
                <a:tab algn="l" pos="1206360"/>
                <a:tab algn="l" pos="1609560"/>
                <a:tab algn="l" pos="2008080"/>
                <a:tab algn="l" pos="2413080"/>
                <a:tab algn="l" pos="2816280"/>
                <a:tab algn="l" pos="3218040"/>
                <a:tab algn="l" pos="3621240"/>
                <a:tab algn="l" pos="4024440"/>
                <a:tab algn="l" pos="4425840"/>
                <a:tab algn="l" pos="4827600"/>
                <a:tab algn="l" pos="5232240"/>
                <a:tab algn="l" pos="5634000"/>
                <a:tab algn="l" pos="6033960"/>
                <a:tab algn="l" pos="6438960"/>
                <a:tab algn="l" pos="6840360"/>
                <a:tab algn="l" pos="7242120"/>
                <a:tab algn="l" pos="7645320"/>
                <a:tab algn="l" pos="8048520"/>
                <a:tab algn="l" pos="8064360"/>
                <a:tab algn="l" pos="8467560"/>
                <a:tab algn="l" pos="8871120"/>
                <a:tab algn="l" pos="9274320"/>
                <a:tab algn="l" pos="9677520"/>
                <a:tab algn="l" pos="10080720"/>
                <a:tab algn="l" pos="10483920"/>
                <a:tab algn="l" pos="10887120"/>
              </a:tabLst>
            </a:pPr>
            <a:fld id="{C03F9FBF-CF6D-4FA2-821E-4D412F58803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4019400" y="8918640"/>
            <a:ext cx="30798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4640"/>
                <a:tab algn="l" pos="809640"/>
                <a:tab algn="l" pos="1216080"/>
                <a:tab algn="l" pos="1622520"/>
                <a:tab algn="l" pos="2028960"/>
                <a:tab algn="l" pos="2433600"/>
                <a:tab algn="l" pos="2840040"/>
                <a:tab algn="l" pos="3246480"/>
                <a:tab algn="l" pos="3649680"/>
                <a:tab algn="l" pos="4057560"/>
                <a:tab algn="l" pos="4464000"/>
                <a:tab algn="l" pos="4867200"/>
                <a:tab algn="l" pos="5275440"/>
                <a:tab algn="l" pos="5681520"/>
                <a:tab algn="l" pos="6086520"/>
                <a:tab algn="l" pos="6491160"/>
                <a:tab algn="l" pos="6899400"/>
                <a:tab algn="l" pos="7305840"/>
                <a:tab algn="l" pos="7709040"/>
                <a:tab algn="l" pos="811692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  <a:tab algn="l" pos="10566360"/>
              </a:tabLst>
            </a:pPr>
            <a:fld id="{14767365-530E-4C02-BEE6-609598F093AC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06" name="Text Box 1"/>
          <p:cNvSpPr/>
          <p:nvPr/>
        </p:nvSpPr>
        <p:spPr>
          <a:xfrm>
            <a:off x="1039680" y="714240"/>
            <a:ext cx="5021280" cy="35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body"/>
          </p:nvPr>
        </p:nvSpPr>
        <p:spPr>
          <a:xfrm>
            <a:off x="709200" y="4458960"/>
            <a:ext cx="5681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4019400" y="8918640"/>
            <a:ext cx="30798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4640"/>
                <a:tab algn="l" pos="809640"/>
                <a:tab algn="l" pos="1216080"/>
                <a:tab algn="l" pos="1622520"/>
                <a:tab algn="l" pos="2028960"/>
                <a:tab algn="l" pos="2433600"/>
                <a:tab algn="l" pos="2840040"/>
                <a:tab algn="l" pos="3246480"/>
                <a:tab algn="l" pos="3649680"/>
                <a:tab algn="l" pos="4057560"/>
                <a:tab algn="l" pos="4464000"/>
                <a:tab algn="l" pos="4867200"/>
                <a:tab algn="l" pos="5275440"/>
                <a:tab algn="l" pos="5681520"/>
                <a:tab algn="l" pos="6086520"/>
                <a:tab algn="l" pos="6491160"/>
                <a:tab algn="l" pos="6899400"/>
                <a:tab algn="l" pos="7305840"/>
                <a:tab algn="l" pos="7709040"/>
                <a:tab algn="l" pos="811692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  <a:tab algn="l" pos="10566360"/>
              </a:tabLst>
            </a:pPr>
            <a:fld id="{E8ED9058-C7CE-4ACA-B066-DEB3A8E7E587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09" name="Text Box 1"/>
          <p:cNvSpPr/>
          <p:nvPr/>
        </p:nvSpPr>
        <p:spPr>
          <a:xfrm>
            <a:off x="1039680" y="714240"/>
            <a:ext cx="5021280" cy="35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body"/>
          </p:nvPr>
        </p:nvSpPr>
        <p:spPr>
          <a:xfrm>
            <a:off x="709200" y="4458960"/>
            <a:ext cx="5681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4019400" y="8918640"/>
            <a:ext cx="30798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4640"/>
                <a:tab algn="l" pos="809640"/>
                <a:tab algn="l" pos="1216080"/>
                <a:tab algn="l" pos="1622520"/>
                <a:tab algn="l" pos="2028960"/>
                <a:tab algn="l" pos="2433600"/>
                <a:tab algn="l" pos="2840040"/>
                <a:tab algn="l" pos="3246480"/>
                <a:tab algn="l" pos="3649680"/>
                <a:tab algn="l" pos="4057560"/>
                <a:tab algn="l" pos="4464000"/>
                <a:tab algn="l" pos="4867200"/>
                <a:tab algn="l" pos="5275440"/>
                <a:tab algn="l" pos="5681520"/>
                <a:tab algn="l" pos="6086520"/>
                <a:tab algn="l" pos="6491160"/>
                <a:tab algn="l" pos="6899400"/>
                <a:tab algn="l" pos="7305840"/>
                <a:tab algn="l" pos="7709040"/>
                <a:tab algn="l" pos="811692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  <a:tab algn="l" pos="10566360"/>
              </a:tabLst>
            </a:pPr>
            <a:fld id="{3CF526A6-8480-414F-AC99-882338A56F39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12" name="Text Box 1"/>
          <p:cNvSpPr/>
          <p:nvPr/>
        </p:nvSpPr>
        <p:spPr>
          <a:xfrm>
            <a:off x="1039680" y="714240"/>
            <a:ext cx="5021280" cy="35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body"/>
          </p:nvPr>
        </p:nvSpPr>
        <p:spPr>
          <a:xfrm>
            <a:off x="709200" y="4458960"/>
            <a:ext cx="5681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4019400" y="8918640"/>
            <a:ext cx="30798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4640"/>
                <a:tab algn="l" pos="809640"/>
                <a:tab algn="l" pos="1216080"/>
                <a:tab algn="l" pos="1622520"/>
                <a:tab algn="l" pos="2028960"/>
                <a:tab algn="l" pos="2433600"/>
                <a:tab algn="l" pos="2840040"/>
                <a:tab algn="l" pos="3246480"/>
                <a:tab algn="l" pos="3649680"/>
                <a:tab algn="l" pos="4057560"/>
                <a:tab algn="l" pos="4464000"/>
                <a:tab algn="l" pos="4867200"/>
                <a:tab algn="l" pos="5275440"/>
                <a:tab algn="l" pos="5681520"/>
                <a:tab algn="l" pos="6086520"/>
                <a:tab algn="l" pos="6491160"/>
                <a:tab algn="l" pos="6899400"/>
                <a:tab algn="l" pos="7305840"/>
                <a:tab algn="l" pos="7709040"/>
                <a:tab algn="l" pos="811692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  <a:tab algn="l" pos="10566360"/>
              </a:tabLst>
            </a:pPr>
            <a:fld id="{8AF56639-22AB-409C-8CF4-48FC36E78DC0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15" name="Text Box 1"/>
          <p:cNvSpPr/>
          <p:nvPr/>
        </p:nvSpPr>
        <p:spPr>
          <a:xfrm>
            <a:off x="1039680" y="714240"/>
            <a:ext cx="5021280" cy="35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body"/>
          </p:nvPr>
        </p:nvSpPr>
        <p:spPr>
          <a:xfrm>
            <a:off x="709200" y="4458960"/>
            <a:ext cx="5681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4019400" y="8918640"/>
            <a:ext cx="30798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4640"/>
                <a:tab algn="l" pos="809640"/>
                <a:tab algn="l" pos="1216080"/>
                <a:tab algn="l" pos="1622520"/>
                <a:tab algn="l" pos="2028960"/>
                <a:tab algn="l" pos="2433600"/>
                <a:tab algn="l" pos="2840040"/>
                <a:tab algn="l" pos="3246480"/>
                <a:tab algn="l" pos="3649680"/>
                <a:tab algn="l" pos="4057560"/>
                <a:tab algn="l" pos="4464000"/>
                <a:tab algn="l" pos="4867200"/>
                <a:tab algn="l" pos="5275440"/>
                <a:tab algn="l" pos="5681520"/>
                <a:tab algn="l" pos="6086520"/>
                <a:tab algn="l" pos="6491160"/>
                <a:tab algn="l" pos="6899400"/>
                <a:tab algn="l" pos="7305840"/>
                <a:tab algn="l" pos="7709040"/>
                <a:tab algn="l" pos="811692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  <a:tab algn="l" pos="10566360"/>
              </a:tabLst>
            </a:pPr>
            <a:fld id="{7AA432F3-CDF3-4818-BC35-BB939EACBCE7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18" name="Text Box 1"/>
          <p:cNvSpPr/>
          <p:nvPr/>
        </p:nvSpPr>
        <p:spPr>
          <a:xfrm>
            <a:off x="1039680" y="714240"/>
            <a:ext cx="5021280" cy="35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body"/>
          </p:nvPr>
        </p:nvSpPr>
        <p:spPr>
          <a:xfrm>
            <a:off x="709200" y="4458960"/>
            <a:ext cx="5681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3969-1C0A-4DBE-9EF1-2B3A61576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C1C9-58F3-4834-B0B8-E66487595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7058C3-02E8-4E40-A81A-6B7A79A26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CDB2CD-54C9-41AD-92B0-C01DA212C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04360" y="301320"/>
            <a:ext cx="906804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537C83-0B20-429E-B6D3-ADA567667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9F8516-E046-4D89-9C05-5FE27B57D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CAECF8-CBD0-4FF5-9579-A7458C073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392210-A714-42C0-B90B-39F3D4B40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8C8493-3E76-4A99-9FBD-F0237DE15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BE16D8-6330-400F-B35D-9B790E0F7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704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63624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043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704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63624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67736F-5A05-4459-B06C-6975F3D11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7E376D-5C9D-4904-BFE5-A6C022D9C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829A-BC6B-45F2-827F-F4E6D4F06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2B3729-5BB3-4E5E-96DC-CCE0F7589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ECA210-58CE-43D6-9B00-3B206624C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5BB46C-492E-427C-9E94-5B61122E5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DADEBE-BF71-4FEC-B9A5-3043A233C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04360" y="301320"/>
            <a:ext cx="906804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7B004F-29AD-4DD0-878C-53E2C5022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3400B2-06B7-42F1-9D83-FEAAEF4E2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80AA0E-252E-4C0C-8B7C-7BF3A897B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0B80AE-D017-4ADA-9327-D34C1AD25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2DF367-2AD8-4BD8-A189-50EA99F4B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0A5264-449A-4D97-B045-A18C6CCC3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4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24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3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4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24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6DB8-B693-4DB3-A60A-2E02A0A8F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5704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63624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043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5704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63624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C3A98B-E447-4A0F-8333-A7E6463C0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4C4AF8-A083-491F-8378-B9969F879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61FE45-2068-4980-92A4-A3F39A74C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F5DCA6-624B-411A-9380-77C03D205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E790DC-0001-4331-8BC5-A0D3C3AF6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E8CC80-0BA1-4BFF-B67B-F4297BD40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04360" y="301320"/>
            <a:ext cx="906804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FB839C-4FA5-4AE7-A167-A876B743B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D90E36-8544-4602-887E-5D49D0EDD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FCB385-203A-4592-BB46-8517D57A2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57EA62-100B-4944-B177-8BC6BCBD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64690-E269-4C26-B0F6-293C44C5D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4B3DB6-4A65-43BE-A4AF-6BD464B47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871351-0DF4-4F44-AA13-6F675DFF9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5704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63624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043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5704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63624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191CE7-9160-4D11-8C7D-DAF29B332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920767-DF02-459D-8C56-5371BF99F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EE422C-3EDD-4F22-A098-55119DB5E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7F9D4D-05BE-4A65-9850-2B498B205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C2A2C2-EE45-4F28-BE4A-C65C0CF2A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752285-71D0-487C-AD33-9A17D7D07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04360" y="301320"/>
            <a:ext cx="906804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DCA292-0E7A-4B0E-94F8-092AB434A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3CE82C-4C41-4980-B711-53F0EB340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49A37-1ABF-4C8B-8906-ED49AE1E9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C30DF7-9FBA-4044-8CAB-0AE793B62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BF9E4C-7B59-427B-A030-D671E35DE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2D3B04-C1D1-4B4E-8C0A-1FC244DC1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EDB342-736D-41D6-9FAA-7E05CB1F5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5704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63624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043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5704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63624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D68C4E-ED3D-4EF5-8E2D-69B4AB396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74974-1EE6-41C5-A2BE-15C40B4DB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9FE86-D0E1-45A1-AFE8-4DD506E63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D8687-97D3-4BB9-BBDF-4F948916F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4360" y="301320"/>
            <a:ext cx="906804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2E886-A80B-4DAF-8329-45A81530D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72559-83EF-45FB-9934-99EAE95D8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EF63-64CD-4E5E-8454-62EEC33ED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DEBEB-378E-48A3-B24A-CF77778DA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77CF1-5161-40A5-90CA-80A9EB832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C0E27-FD66-47F2-BDEF-9CC20BD28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D6130-9261-4266-B02F-D715916B8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04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624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43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04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624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04440-AC6B-49AE-A516-ED722B9E5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939A0-733E-4BC8-8DBF-DE9C78241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85C11-9EBA-4452-8BE5-D0CF8E9B7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5C33D-B7F2-4E00-AE27-65145400F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8C2FD-745F-4C8C-BB54-3E035A772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6C92A-F595-461B-A49F-5ED323596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D3B1-395D-4718-9E60-264873E0C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4360" y="301320"/>
            <a:ext cx="906804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F1099-6494-44F0-9594-A6EDABC16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41A37-4E46-4FAD-879F-1058F674E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CC1B8-B415-4342-B783-9224AB38B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19135-232E-4954-96EF-CA58B3EA1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F37CB-6FD3-4683-9F8A-6326090C8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13156-1064-405D-9F7D-0415D9397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704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3624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43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704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63624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FD971-0D63-404A-BD57-772A2CFA3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B106E-ED3F-45DF-B310-F52357979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09A07-FC71-4E36-9BE2-6775D999B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A37E9E-613B-496B-9BD7-BD6FFA603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922B-74F0-4FFA-A363-CC99DBE9E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7BE606-4830-4766-8A8B-147CC6A5D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CCAFD-C80F-46A3-8B6C-5684CB80E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04360" y="301320"/>
            <a:ext cx="906804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3794C-78C6-4803-9BF1-B666A73E9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717CC-02C0-46CD-BB65-09C24078F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56D4D-7891-4034-A871-DD4C9BBCC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E23E3-D246-4E8F-9EE9-852E97ACC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282D8-5DB8-4013-AC35-337A9763E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DDD5D-F3CD-4B0A-8AE0-67DFDDC17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704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63624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043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704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63624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A1298-91C8-4F4F-B093-97341CC55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978158-84D6-491C-8374-B64DE6210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A50A-B839-4DD9-8E67-6563C9660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E47210-558E-4EB2-8E40-0EFBCBB36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D70488-EC2A-40BA-A061-1374A0290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CDACF6-F90A-4673-9168-1A24E9AAB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10618E-4BC8-48F6-8BD3-E9EFE787F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04360" y="301320"/>
            <a:ext cx="906804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BE9C63-4144-4721-9355-F4F29B669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CFB0E8-8DC8-443A-8DEB-98828B589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1C2550-DF7F-46A4-8B71-7DED378E3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36227C-2D0A-41D0-88B1-E45534E04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2AF987-E04A-499C-B6A5-A17840E18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F725D6-2C3E-4CCF-BE5E-78DA9C909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360" y="301320"/>
            <a:ext cx="906804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E23B-B235-418F-9324-419848A75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5704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63624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43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5704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63624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C56EAE-B501-47DC-85F9-315CCE90F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E7C47F-EAD2-42F4-95F0-1E3CF9B5A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D887DF-8FB2-497D-A3C1-44DB7E738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E0D525-2550-4C6C-98EA-99738F7A5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FC9F5A-E6D4-41C1-A633-BE261FCF1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B6E599-974C-4266-8410-62B1152FB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04360" y="301320"/>
            <a:ext cx="906804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B26A77-97D4-4721-B975-74FB38882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A00A25-4FAC-4B3F-B281-3C7217A4F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7CC4BD-2D2C-4F01-BE63-46A6AAD32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430D34-3BA4-46AE-A6E7-D681908B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1F87-05A1-41B5-AC40-CEABE141C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6C73C4-21C0-43EE-8CD1-1DB938589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D84DE0-8ED3-4325-B451-2902F5C95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704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624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043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704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63624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17FA84-5730-41BE-A322-8483065F7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36AA56-E69D-4934-982F-F2C6B156D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2A93DF-9AFE-4C5E-9EAC-D67FE328E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D01CD2-B4BA-4304-9DA8-48DEE8154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59C1C5-AC9C-410E-B022-CEEB38AC0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94C1E0-9BC6-4C8F-A501-77608CDBC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04360" y="301320"/>
            <a:ext cx="906804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4D95AD-A76F-404D-B4E8-E34C74C0A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334534-E17A-44A7-8AE7-835D55F63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377A-367C-47BE-8289-E2DBA4605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644CE1-66FF-4DB5-99B3-7620FC90C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829112-F458-4B52-9BFB-3C178A841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5C8ADA-D811-41C7-BE35-0589115FA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A1084D-7334-4DC9-8988-34E88E303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704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63624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043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5704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63624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FE11C7-1615-4B3E-B42E-A82F3BA2F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542CC3-E1E7-4974-9F2B-6E1A79162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945432-398C-4B58-8F2A-BE29D71B9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1237ED-4753-49B7-B5E6-17B5C3E6E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DE49FA-B8B8-4662-9646-F3C40F96C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EFB841-D063-4FA6-890E-8F75C1ADF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6E40-D350-4F2E-BB3C-3D8576DB3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04360" y="301320"/>
            <a:ext cx="906804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E9ABAB-12D6-4BB7-80E4-370459868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64D96E-C1DA-442B-80D2-ABBE1EC75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B431A8-D001-47A4-86E7-87878F8A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61AE95-B191-4A73-B6CF-520A42563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B5CA23-1C6F-49C4-B4A4-72B75AF33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D01BCA-4468-489A-87A0-769475C8A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5704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63624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043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5704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63624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5E11E7-32E7-437D-B93D-D611D4AEF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555EC8-F977-41CC-8AA9-30D43885A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4AF09A-BCA6-4E74-ABAE-72430CF28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B1179A-A0DA-4198-955D-91367367A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50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9F83177-4B18-406F-BF78-621994A17B3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504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7227720" y="6886080"/>
            <a:ext cx="23450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1CF2EA8-68C3-4352-BEDC-67CFA38D490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504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7227720" y="6886080"/>
            <a:ext cx="23450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2240FB4-7808-4DA8-87A2-3BB2BF14A5A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504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7227720" y="6886080"/>
            <a:ext cx="23450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43BB96D-DCB4-4E56-9462-433D5CA1138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4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080"/>
            <a:ext cx="23450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98A8D6E-BC60-4A39-9241-805CD6CD95C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504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27720" y="6886080"/>
            <a:ext cx="23450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14074BD-15F0-4780-BBD4-D4382CBB2A4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504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227720" y="6886080"/>
            <a:ext cx="23450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1469C35-2FAA-484B-8A7B-65DCB5A5773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504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7227720" y="6886080"/>
            <a:ext cx="23450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0121BC9-C54F-4000-B616-E8BB824A9F0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504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7227720" y="6886080"/>
            <a:ext cx="23450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AE7DB01-80D6-44AD-B291-52D95011923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504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7227720" y="6886080"/>
            <a:ext cx="23450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86D9803-AC21-48B8-B3A4-2A88A0D3A0B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504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7227720" y="6886080"/>
            <a:ext cx="23450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E10F54E-CABA-4C52-A30E-634B752A27F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504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7227720" y="6886080"/>
            <a:ext cx="23450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11E3D4B-11F6-4376-A4F2-0D485581A65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 Box 2"/>
          <p:cNvSpPr/>
          <p:nvPr/>
        </p:nvSpPr>
        <p:spPr>
          <a:xfrm>
            <a:off x="1294200" y="2103480"/>
            <a:ext cx="7552440" cy="20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Verdana"/>
              </a:rPr>
              <a:t>Show Me The Wonder</a:t>
            </a: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 Box 2"/>
          <p:cNvSpPr/>
          <p:nvPr/>
        </p:nvSpPr>
        <p:spPr>
          <a:xfrm>
            <a:off x="937080" y="1417680"/>
            <a:ext cx="8282160" cy="456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Show me the wonder of your great love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Bring down the thunder from up abov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And when I hunger you'll fill me up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Show me the wonder of your love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Show me the wonder when I am weak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You'll take me under your tender wing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And tell me that you will rescue me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Show me the wonder of your love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Text Box 2"/>
          <p:cNvSpPr/>
          <p:nvPr/>
        </p:nvSpPr>
        <p:spPr>
          <a:xfrm>
            <a:off x="991080" y="1424160"/>
            <a:ext cx="8282160" cy="456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Show me the wonder of your great love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Bring down the thunder from up abov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And when I hunger you'll fill me up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Show me the wonder of your love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Show me the wonder when I am strong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You'll take my hand as we walk along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And always guide me away from wrong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Show me the wonder of your love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 Box 2"/>
          <p:cNvSpPr/>
          <p:nvPr/>
        </p:nvSpPr>
        <p:spPr>
          <a:xfrm>
            <a:off x="937080" y="1494000"/>
            <a:ext cx="8282160" cy="456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Show me the wonder of your great love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Bring down the thunder from up abov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And when I hunger you'll fill me up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Show me the wonder of your love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Show me the wonder of what's beyond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You'll lift us up to you one by one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Where every tear, every shadow's gone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Show me the wonder of your love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Text Box 2"/>
          <p:cNvSpPr/>
          <p:nvPr/>
        </p:nvSpPr>
        <p:spPr>
          <a:xfrm>
            <a:off x="989640" y="1836720"/>
            <a:ext cx="8282160" cy="19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Show me the wonder of your great love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Bring down the thunder from up abov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And when I hunger you'll fill me up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Show me the wonder of your love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ince Flowers</dc:creator>
  <dc:description/>
  <dc:language>en-US</dc:language>
  <cp:lastModifiedBy>Peter</cp:lastModifiedBy>
  <dcterms:modified xsi:type="dcterms:W3CDTF">2011-02-16T05:24:35Z</dcterms:modified>
  <cp:revision>1573</cp:revision>
  <dc:subject/>
  <dc:title>Slide 1</dc:title>
</cp:coreProperties>
</file>